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4.jpeg" ContentType="image/jpeg"/>
  <Override PartName="/ppt/media/image2.png" ContentType="image/png"/>
  <Override PartName="/ppt/media/image11.png" ContentType="image/pn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C1ED-1B53-41E1-8A4E-B5A7D46335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E3B-52DC-43FF-A36B-6A6364F976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3670-D753-4CB1-B254-C0572E08C4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8C1-4EB9-4CAC-9E9A-B0EB59BCB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E1BC-9AFC-4C9B-BDAC-75224EC176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DC0-4AB0-4596-8901-F8072898D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66B6-560E-450F-AED2-C8D7BF532F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DB7-4736-4BB9-B765-9FA2A7F922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BBA7-059B-4206-8751-98E0A86D09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4E6-B95D-4AED-B2CE-B9D4D673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C5D-0054-43FE-9CF4-5CBAB394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439-9F8E-4AF4-9D21-11098CC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F24-A81F-4165-972E-D6192BDF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0A9D-16CC-4AB2-9C85-7B0A983A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6B5E-3DF8-4A4A-BD56-32FA59BA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4AB5-41C3-4207-BDF7-F460BC8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0E05-DD9E-4BD2-9EA1-93D1AC3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0FA1-30E0-4C86-9FA2-7866C1C6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6ACF-D06A-4E56-9A13-A8A049FD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4EED-31CB-4B50-815B-CCF7DC4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6A7-B4A6-4A7D-8FA8-AC045B57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19D-825F-41EA-BCD9-8E5C230B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9A81-119C-4F0E-B1B2-BD2758B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E73-B11D-481D-AFDE-6E6D965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F3E4-2AE5-4E85-973A-31A75486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25A-4DF8-4157-8562-B19203EC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6AD0-179A-4FDE-8EC8-3A80309C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131A-ED0E-4B30-A7CE-C2F609B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B90C-DA78-4D67-9C9E-FDB911A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11B1-2E2D-4ED0-A682-EE7131A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1A82-6C8A-4293-AB40-5C276148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2AC-B48D-404C-8492-E883331F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E52D-61A3-4FCF-ACD6-7497ADB5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E325-3A01-42A7-A093-D44966A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8E3D-7569-46C1-8FA2-ED5AEB6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5643-317C-42FE-9CF2-3F3D93B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5536-869E-4C5D-9EE6-DBD54436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B940-066C-4150-9EE6-12AEC81E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D322-C25C-4859-AE20-47399E27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50F7-4983-47CF-88D2-29E2A59F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49B4-E310-4D52-B15A-A54BE5A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A6B7-A4F1-4D03-9C0B-C274D62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B63-8043-4AC5-A57A-55ECC2D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AEB0-62B6-49F9-B5DA-FA3234CA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2A2B-9344-47D5-A699-C645053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8BB7-C3CA-4132-820E-C5D8364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065A-63B4-4D3D-9335-CCBBAB9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B91F-0FDE-4424-86F7-B5B53F2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861D-F23A-4831-85FB-639DF2C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309F-6482-434B-9D4E-61A81B4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F0DDE-F21A-4E7F-81F0-105A18F4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3448-7A00-4DC3-B215-B53C95F9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ACB77-192E-4EE6-94D8-BF67D794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C8B-B0E2-4B09-88D9-413FBF5D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989D-604C-4FCF-AB7F-7F2EA3F7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A3D80-7D12-4DEB-AFC6-1DF978CE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0B47-66BC-4E74-B097-9E4F318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1DD4-CAFC-4008-B875-1A906B50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409D7-AC76-4F32-8B2F-CA3AA2DE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34E7-AA11-402B-81AA-ED4DF76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9E6B5-0668-4629-9BB6-05C93DF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135C-BBED-4336-AEC2-F3BAEA28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E684-A4F8-4B8E-B225-A0E49A51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24DE-69C1-4C7F-BDCA-7BEF54B8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E1E-6A06-4202-9B4A-80381E47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ECBB-EEBF-4744-9252-6654DEA8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CA3-B1DB-4F78-A06D-1B4341B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EC5-CE82-4A6C-AC50-AB2A9F3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B98-05D0-4352-9736-65299ED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6600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86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8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349-3FD2-44C4-9C4E-2DA913B5388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6600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86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8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7fed9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7fed9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E1F2-BD69-4C37-AAAE-8EF3563CC4E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6600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86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8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7fed9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7fed9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ed94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7fed94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23A5-35EA-401C-A842-40B1A425A48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6600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86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6600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86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8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3AEE-0862-4B86-B2CD-D6136DA23A0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6600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86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8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293-CC81-4D03-A269-92E63D93A9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0" y="2428920"/>
            <a:ext cx="914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098d"/>
                </a:solidFill>
                <a:latin typeface="Esenin script Two"/>
              </a:rPr>
              <a:t>Управление развитием здоровьесберегающей среды  в 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098d"/>
                </a:solidFill>
                <a:latin typeface="Esenin script Two"/>
              </a:rPr>
              <a:t>Директор школы  -  А.А.Бешлия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428760" y="71424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МУНИЦИПАЛЬНОЕ ОБЩ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Arial"/>
              </a:rPr>
              <a:t>«Чалтырская средняя общеобразовательная школа № 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Arial"/>
              </a:rPr>
              <a:t>(МОУ «СОШ № 3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F:\фотки\герб.bmp"/>
          <p:cNvPicPr/>
          <p:nvPr/>
        </p:nvPicPr>
        <p:blipFill>
          <a:blip r:embed="rId1"/>
          <a:stretch/>
        </p:blipFill>
        <p:spPr>
          <a:xfrm>
            <a:off x="7929720" y="214200"/>
            <a:ext cx="1071360" cy="1500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64" name="TextBox 6"/>
          <p:cNvSpPr/>
          <p:nvPr/>
        </p:nvSpPr>
        <p:spPr>
          <a:xfrm>
            <a:off x="4039560" y="6072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2428"/>
                </a:solidFill>
                <a:latin typeface="Constantia"/>
              </a:rPr>
              <a:t>2011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88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Главная цель использования здоровьесберегающих технологий – здоровье школьнико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но без заботы о здоровье учителя эта цель трудно достижим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За три года работы школ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 использованием технологий здоровьесбережени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значительно сократилась заболеваемость педагог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611280" y="2492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Количество заболеваний работников школы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2"/>
          <p:cNvGraphicFramePr/>
          <p:nvPr/>
        </p:nvGraphicFramePr>
        <p:xfrm>
          <a:off x="684360" y="3500280"/>
          <a:ext cx="8208720" cy="31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8208720" cy="31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20840" y="1494000"/>
            <a:ext cx="873576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693280" cy="63212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-184320" y="28526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Схема 4" descr=""/>
          <p:cNvPicPr/>
          <p:nvPr/>
        </p:nvPicPr>
        <p:blipFill>
          <a:blip r:embed="rId2"/>
          <a:stretch/>
        </p:blipFill>
        <p:spPr>
          <a:xfrm>
            <a:off x="1457280" y="-6480"/>
            <a:ext cx="6132600" cy="470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rcRect l="0" t="0" r="0" b="21364"/>
          <a:stretch/>
        </p:blipFill>
        <p:spPr>
          <a:xfrm>
            <a:off x="3419640" y="4653000"/>
            <a:ext cx="2531880" cy="19144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09480" y="549000"/>
            <a:ext cx="8121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Book Antiqua"/>
              </a:rPr>
              <a:t>2008 -2011 годы – МОУ «СОШ №3»  - муниципальная экспериментальная площадк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Book Antiqua"/>
              </a:rPr>
              <a:t>Программа экспериментальной деятельности МОУ</a:t>
            </a:r>
            <a:r>
              <a:rPr b="1" lang="ru-RU" sz="2800" spc="-1" strike="noStrike">
                <a:solidFill>
                  <a:srgbClr val="595959"/>
                </a:solidFill>
                <a:latin typeface="Constantia"/>
              </a:rPr>
              <a:t>«</a:t>
            </a:r>
            <a:r>
              <a:rPr b="1" lang="ru-RU" sz="2800" spc="-1" strike="noStrike">
                <a:solidFill>
                  <a:srgbClr val="595959"/>
                </a:solidFill>
                <a:latin typeface="Book Antiqua"/>
              </a:rPr>
              <a:t>СОШ №3</a:t>
            </a:r>
            <a:r>
              <a:rPr b="1" lang="ru-RU" sz="2800" spc="-1" strike="noStrike">
                <a:solidFill>
                  <a:srgbClr val="595959"/>
                </a:solidFill>
                <a:latin typeface="Constantia"/>
              </a:rPr>
              <a:t>»</a:t>
            </a:r>
            <a:r>
              <a:rPr b="1" lang="ru-RU" sz="2800" spc="-1" strike="noStrike">
                <a:solidFill>
                  <a:srgbClr val="59595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Book Antiqua"/>
              </a:rPr>
              <a:t>с.Чалтырь </a:t>
            </a:r>
            <a:r>
              <a:rPr b="1" lang="ru-RU" sz="2600" spc="-1" strike="noStrike">
                <a:solidFill>
                  <a:srgbClr val="595959"/>
                </a:solidFill>
                <a:latin typeface="Book Antiqua"/>
              </a:rPr>
              <a:t>по теме:</a:t>
            </a:r>
            <a:r>
              <a:rPr b="1" lang="ru-RU" sz="2000" spc="-1" strike="noStrike">
                <a:solidFill>
                  <a:srgbClr val="59595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Book Antiqu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1042920" y="3573360"/>
            <a:ext cx="77788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«Здоровьесберегающая среда в школе как условие 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гармоничного развития личности обучающегося». 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езервы внутришкольной среды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4200" y="135720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циональная организация учебного процесса, сбалансированный режим учебы и отдых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недрение методик преподавания учебных дисциплин, основанных на здоровьесберегающих технологиях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бучение детей с ограниченными возможностями здоровья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ыявление здоровьесберегающего потенциала каждой образовательной области, уро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неурочная деятельность детей, организация их досуга, организация дополнительного образования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оздание в детском коллективе благоприятного психологического микроклимата (работа психолого-медико-педагогической службы школы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риентирование учителей на реализацию здорового образа жизни, сохранение своего здоровья и бережное отношение к здоровью ученик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осветительская работа среди участников учебно-воспитательного процесса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творческий характер образовательного процесса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63520" y="1197000"/>
            <a:ext cx="40212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4067280" y="3645000"/>
            <a:ext cx="3762360" cy="2857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4067280" y="836640"/>
            <a:ext cx="3647880" cy="27367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8"/>
          <p:cNvSpPr/>
          <p:nvPr/>
        </p:nvSpPr>
        <p:spPr>
          <a:xfrm>
            <a:off x="684360" y="1557360"/>
            <a:ext cx="2950920" cy="4319640"/>
          </a:xfrm>
          <a:prstGeom prst="rect">
            <a:avLst/>
          </a:prstGeom>
          <a:solidFill>
            <a:srgbClr val="e5fbe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ДОРОВЫЙ ОБРАЗ ЖИЗН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(элективный кур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ы программ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Бешлиян А.А., директор МОУ «СОШ №3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Багаджиян М.А., учитель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СОШ №3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с.Чалтыр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971640" y="1773360"/>
            <a:ext cx="244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ЩЕОБРАЗОВАТЕЛЬНО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«ЧАЛТЫРСКАЯ СРЕДНЯЯ ОБЩЕОБРАЗОВАТЕЛЬНАЯ ШКОЛА №3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КУР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835280" y="5247720"/>
            <a:ext cx="720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00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427640" y="404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C:\Users\Завуч-НМР\Desktop\фото\104___03\IMG_0155.JPG"/>
          <p:cNvPicPr/>
          <p:nvPr/>
        </p:nvPicPr>
        <p:blipFill>
          <a:blip r:embed="rId1"/>
          <a:srcRect l="0" t="0" r="7102" b="16587"/>
          <a:stretch/>
        </p:blipFill>
        <p:spPr>
          <a:xfrm>
            <a:off x="250920" y="549360"/>
            <a:ext cx="4608360" cy="2776320"/>
          </a:xfrm>
          <a:prstGeom prst="rect">
            <a:avLst/>
          </a:prstGeom>
          <a:ln w="38160">
            <a:solidFill>
              <a:srgbClr val="04617b"/>
            </a:solidFill>
            <a:miter/>
          </a:ln>
        </p:spPr>
      </p:pic>
      <p:pic>
        <p:nvPicPr>
          <p:cNvPr id="282" name="Picture 2" descr="F:\медкабинет\IMG_0526.JPG"/>
          <p:cNvPicPr/>
          <p:nvPr/>
        </p:nvPicPr>
        <p:blipFill>
          <a:blip r:embed="rId2"/>
          <a:stretch/>
        </p:blipFill>
        <p:spPr>
          <a:xfrm>
            <a:off x="3995640" y="3132000"/>
            <a:ext cx="4969080" cy="37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Object 2"/>
          <p:cNvGraphicFramePr/>
          <p:nvPr/>
        </p:nvGraphicFramePr>
        <p:xfrm>
          <a:off x="179280" y="2971800"/>
          <a:ext cx="557208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71800"/>
                    <a:ext cx="5572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Picture 10" descr="S6300528"/>
          <p:cNvPicPr/>
          <p:nvPr/>
        </p:nvPicPr>
        <p:blipFill>
          <a:blip r:embed="rId5"/>
          <a:stretch/>
        </p:blipFill>
        <p:spPr>
          <a:xfrm>
            <a:off x="5148360" y="504720"/>
            <a:ext cx="3995640" cy="2995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"/>
          <p:cNvSpPr/>
          <p:nvPr/>
        </p:nvSpPr>
        <p:spPr>
          <a:xfrm>
            <a:off x="1332000" y="692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жные ков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637236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Users\Учитель\Desktop\Фотки\оформление\IMG_0466.JPG"/>
          <p:cNvPicPr/>
          <p:nvPr/>
        </p:nvPicPr>
        <p:blipFill>
          <a:blip r:embed="rId1"/>
          <a:srcRect l="9497" t="8768" r="4973" b="21053"/>
          <a:stretch/>
        </p:blipFill>
        <p:spPr>
          <a:xfrm>
            <a:off x="214200" y="1428840"/>
            <a:ext cx="3830760" cy="2357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89" name="TextBox 7"/>
          <p:cNvSpPr/>
          <p:nvPr/>
        </p:nvSpPr>
        <p:spPr>
          <a:xfrm>
            <a:off x="5292360" y="14288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награждения побе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сов «Ученик года – 200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«Спортсмен года – 200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школа приобрела ме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Стрелка влево 8"/>
          <p:cNvGrpSpPr/>
          <p:nvPr/>
        </p:nvGrpSpPr>
        <p:grpSpPr>
          <a:xfrm>
            <a:off x="4071960" y="1889280"/>
            <a:ext cx="1206360" cy="645840"/>
            <a:chOff x="4071960" y="1889280"/>
            <a:chExt cx="1206360" cy="645840"/>
          </a:xfrm>
        </p:grpSpPr>
        <p:pic>
          <p:nvPicPr>
            <p:cNvPr id="291" name="Стрелка влево 8" descr=""/>
            <p:cNvPicPr/>
            <p:nvPr/>
          </p:nvPicPr>
          <p:blipFill>
            <a:blip r:embed="rId2"/>
            <a:stretch/>
          </p:blipFill>
          <p:spPr>
            <a:xfrm>
              <a:off x="4071960" y="1889280"/>
              <a:ext cx="120636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268880" y="2054160"/>
              <a:ext cx="946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2" descr="C:\Users\Учитель\Desktop\Фотки\Посл. звонок\9 б\25 мая 031.jpg"/>
          <p:cNvPicPr/>
          <p:nvPr/>
        </p:nvPicPr>
        <p:blipFill>
          <a:blip r:embed="rId3">
            <a:lum contrast="20000"/>
          </a:blip>
          <a:srcRect l="1485" t="1980" r="6232" b="10702"/>
          <a:stretch/>
        </p:blipFill>
        <p:spPr>
          <a:xfrm>
            <a:off x="4284720" y="3284640"/>
            <a:ext cx="4429080" cy="3143160"/>
          </a:xfrm>
          <a:prstGeom prst="rect">
            <a:avLst/>
          </a:prstGeom>
          <a:ln w="38160">
            <a:solidFill>
              <a:srgbClr val="006000"/>
            </a:solidFill>
            <a:miter/>
          </a:ln>
        </p:spPr>
      </p:pic>
      <p:sp>
        <p:nvSpPr>
          <p:cNvPr id="294" name="Text Box 17"/>
          <p:cNvSpPr/>
          <p:nvPr/>
        </p:nvSpPr>
        <p:spPr>
          <a:xfrm>
            <a:off x="611280" y="4076640"/>
            <a:ext cx="288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6fc6"/>
                </a:solidFill>
                <a:latin typeface="Arial"/>
              </a:rPr>
              <a:t>В мае 2009 года подвели итог заболеваемости учащихся по классам и выявили «Самый здоровый клас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185400" y="1599840"/>
            <a:ext cx="880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и степень обученности за три учебных г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Диаграмма 23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8064360" cy="4392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3495c"/>
                </a:solidFill>
                <a:latin typeface="Century Schoolbook"/>
                <a:ea typeface="Times New Roman"/>
              </a:rPr>
              <a:t>Результативность работы школы </a:t>
            </a:r>
            <a:br>
              <a:rPr sz="3200"/>
            </a:br>
            <a:r>
              <a:rPr b="1" lang="ru-RU" sz="3200" spc="-1" strike="noStrike">
                <a:solidFill>
                  <a:srgbClr val="03495c"/>
                </a:solidFill>
                <a:latin typeface="Century Schoolbook"/>
                <a:ea typeface="Times New Roman"/>
              </a:rPr>
              <a:t>по внедрению здоровьесбереже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6:39:38Z</dcterms:created>
  <dc:creator>Учитель</dc:creator>
  <dc:description/>
  <dc:language>en-US</dc:language>
  <cp:lastModifiedBy>Юрист</cp:lastModifiedBy>
  <dcterms:modified xsi:type="dcterms:W3CDTF">2011-11-23T00:05:01Z</dcterms:modified>
  <cp:revision>113</cp:revision>
  <dc:subject/>
  <dc:title>Создание образовательной среды для гармоничного развития и оздоровления младшего школьника.</dc:title>
</cp:coreProperties>
</file>